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E79E7-E022-42F8-979C-3785D666F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2135-0E8B-4D96-B55D-FC586B24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94616-93F8-46E1-BF17-197F734D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9D22C-7A10-4BC1-A5FD-D9BED4F7E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6824-B907-4C78-80CE-5C9142040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D445-70BF-44B2-8713-A91EBC92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E976E-CFC7-4831-9DE7-E1EA4725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FDAD8-B2F3-4A79-9A8A-60EFA87F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B6EF-0D7B-4D9C-987D-ACCAEDD1F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85AD-450B-4689-9A7C-B04BB9F3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F3D8-4722-473F-9F35-C4AADBF7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3F99-5838-45A6-A657-6E6A14647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C768-ABCB-464F-8764-D13DB43BE0ED}" type="slidenum">
              <a:rPr b="0" lang="de-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5400" spc="-1" strike="noStrike">
                <a:solidFill>
                  <a:srgbClr val="000000"/>
                </a:solidFill>
                <a:latin typeface="Times New Roman"/>
              </a:rPr>
              <a:t>Biopsychosoziales Model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Multidimensionalitä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 Eng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Systemebenen</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Biochemisch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Physiologsich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Psychologisch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ozia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pirituelle)</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nzyme</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Zelle, Organe</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Organismus, Seele, Individuum</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Gesellschaft, Partnerschaft</a:t>
            </a:r>
            <a:endParaRPr b="0" lang="en-US" sz="2800" spc="-1" strike="noStrike">
              <a:solidFill>
                <a:srgbClr val="000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Kosmos, „übermenschli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Zusammenspie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eobachtungebene und Beziehungsebene können nicht getrennt werd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ie beiden Ebenen sind also nicht komplementär sondern verzahnt (integrativ)</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edürfnis jedes Menschens i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zu erkennen und zu versteh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erkannt und verstanden zu wer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as wissenschaftliche Paradigma des 17 Jhdt </a:t>
            </a:r>
            <a:r>
              <a:rPr b="0" lang="de-CH" sz="2800" spc="-1" strike="noStrike">
                <a:solidFill>
                  <a:srgbClr val="000000"/>
                </a:solidFill>
                <a:latin typeface="Times New Roman"/>
              </a:rPr>
              <a:t>(Newton, Descartes)</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a:t>
            </a:r>
            <a:r>
              <a:rPr b="0" lang="de-CH" sz="3200" spc="-1" strike="noStrike">
                <a:solidFill>
                  <a:srgbClr val="000000"/>
                </a:solidFill>
                <a:latin typeface="Times New Roman"/>
              </a:rPr>
              <a:t>Der Untersuchungsgegenstand existiert ausserhalb  und unabhängig vom Forscher, der dessen Eigenschaften und Verhaltensweisen entdeckt und charakterisie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as wissenschaftliche Paradigma des 20. Jhdt</a:t>
            </a:r>
            <a:r>
              <a:rPr b="0" lang="de-CH" sz="2800" spc="-1" strike="noStrike">
                <a:solidFill>
                  <a:srgbClr val="000000"/>
                </a:solidFill>
                <a:latin typeface="Times New Roman"/>
              </a:rPr>
              <a:t> (Einstein, Heisenberg)</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a:t>
            </a:r>
            <a:r>
              <a:rPr b="0" lang="de-CH" sz="3200" spc="-1" strike="noStrike">
                <a:solidFill>
                  <a:srgbClr val="000000"/>
                </a:solidFill>
                <a:latin typeface="Times New Roman"/>
              </a:rPr>
              <a:t>Das zu Untersuchende ist untrennbar mit dem Forscher verbunden. Er entwickelt geistige Konzepte seiner Erfahrung mit dem zu Untersuchenden, mit dem Ziel, sein Verständnis von dessen Eigenschaften und Verhalten zu fass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as wissenschaftliche Paradigma des 20. Jhdt</a:t>
            </a:r>
            <a:r>
              <a:rPr b="0" lang="de-CH" sz="2800" spc="-1" strike="noStrike">
                <a:solidFill>
                  <a:srgbClr val="000000"/>
                </a:solidFill>
                <a:latin typeface="Times New Roman"/>
              </a:rPr>
              <a:t> (Einstein, Heisenberg)</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a:t>
            </a:r>
            <a:r>
              <a:rPr b="0" lang="de-CH" sz="3200" spc="-1" strike="noStrike">
                <a:solidFill>
                  <a:srgbClr val="000000"/>
                </a:solidFill>
                <a:latin typeface="Times New Roman"/>
              </a:rPr>
              <a:t>Der Akt der Beobachtung ist ein einheitlicher Vorgang, an welchem unsere Wahl einen </a:t>
            </a:r>
            <a:r>
              <a:rPr b="1" lang="de-CH" sz="3200" spc="-1" strike="noStrike">
                <a:solidFill>
                  <a:srgbClr val="000000"/>
                </a:solidFill>
                <a:latin typeface="Times New Roman"/>
              </a:rPr>
              <a:t>aktiven subjektiven</a:t>
            </a:r>
            <a:r>
              <a:rPr b="0" lang="de-CH" sz="3200" spc="-1" strike="noStrike">
                <a:solidFill>
                  <a:srgbClr val="000000"/>
                </a:solidFill>
                <a:latin typeface="Times New Roman"/>
              </a:rPr>
              <a:t> Anteil hat (....) im Drama des Lebens spielen wir die </a:t>
            </a:r>
            <a:r>
              <a:rPr b="1" lang="de-CH" sz="3200" spc="-1" strike="noStrike">
                <a:solidFill>
                  <a:srgbClr val="000000"/>
                </a:solidFill>
                <a:latin typeface="Times New Roman"/>
              </a:rPr>
              <a:t>Doppelrolle</a:t>
            </a:r>
            <a:r>
              <a:rPr b="0" lang="de-CH" sz="3200" spc="-1" strike="noStrike">
                <a:solidFill>
                  <a:srgbClr val="000000"/>
                </a:solidFill>
                <a:latin typeface="Times New Roman"/>
              </a:rPr>
              <a:t> des </a:t>
            </a:r>
            <a:r>
              <a:rPr b="1" lang="de-CH" sz="3200" spc="-1" strike="noStrike">
                <a:solidFill>
                  <a:srgbClr val="000000"/>
                </a:solidFill>
                <a:latin typeface="Times New Roman"/>
              </a:rPr>
              <a:t>Handelnden </a:t>
            </a:r>
            <a:r>
              <a:rPr b="0" lang="de-CH" sz="3200" spc="-1" strike="noStrike">
                <a:solidFill>
                  <a:srgbClr val="000000"/>
                </a:solidFill>
                <a:latin typeface="Times New Roman"/>
              </a:rPr>
              <a:t>und des </a:t>
            </a:r>
            <a:r>
              <a:rPr b="1" lang="de-CH" sz="3200" spc="-1" strike="noStrike">
                <a:solidFill>
                  <a:srgbClr val="000000"/>
                </a:solidFill>
                <a:latin typeface="Times New Roman"/>
              </a:rPr>
              <a:t>Beobachters</a:t>
            </a:r>
            <a:r>
              <a:rPr b="0" lang="de-CH" sz="3200" spc="-1" strike="noStrike">
                <a:solidFill>
                  <a:srgbClr val="000000"/>
                </a:solidFill>
                <a:latin typeface="Times New Roman"/>
              </a:rPr>
              <a:t>! Wie merkwürdig...., dass diese Erkenntnis... die den Denkkonzepten der Wissenschaft diametral gegenübersteht uns von der </a:t>
            </a:r>
            <a:r>
              <a:rPr b="0" i="1" lang="de-CH" sz="3200" spc="-1" strike="noStrike">
                <a:solidFill>
                  <a:srgbClr val="000000"/>
                </a:solidFill>
                <a:latin typeface="Times New Roman"/>
              </a:rPr>
              <a:t>Atomphysik</a:t>
            </a:r>
            <a:r>
              <a:rPr b="0" lang="de-CH" sz="3200" spc="-1" strike="noStrike">
                <a:solidFill>
                  <a:srgbClr val="000000"/>
                </a:solidFill>
                <a:latin typeface="Times New Roman"/>
              </a:rPr>
              <a:t> aufgedrängt wi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Konsequenz is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ie Beziehung spielt eine Rol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Paradigmawechsel in der Medizi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ie Medizinalperson ist nicht unabhängig vom Patie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ie steht in einer Beziehung zu ihm und ihre Beobachtungen finden somit auf verschiedenen Ebenen stat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Bedürfnis des Mensche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Der Mensch und so auch der Wissenschafter hat das Bedürfniss </a:t>
            </a:r>
            <a:r>
              <a:rPr b="1" lang="de-CH" sz="3200" spc="-1" strike="noStrike">
                <a:solidFill>
                  <a:srgbClr val="000000"/>
                </a:solidFill>
                <a:latin typeface="Times New Roman"/>
              </a:rPr>
              <a:t>zu erkennen</a:t>
            </a:r>
            <a:r>
              <a:rPr b="0" lang="de-CH" sz="3200" spc="-1" strike="noStrike">
                <a:solidFill>
                  <a:srgbClr val="000000"/>
                </a:solidFill>
                <a:latin typeface="Times New Roman"/>
              </a:rPr>
              <a:t> und</a:t>
            </a:r>
            <a:r>
              <a:rPr b="1" lang="de-CH" sz="3200" spc="-1" strike="noStrike">
                <a:solidFill>
                  <a:srgbClr val="000000"/>
                </a:solidFill>
                <a:latin typeface="Times New Roman"/>
              </a:rPr>
              <a:t> zu verstehen</a:t>
            </a:r>
            <a:r>
              <a:rPr b="0" lang="de-CH"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und das Bedürfnis </a:t>
            </a:r>
            <a:r>
              <a:rPr b="1" lang="de-CH" sz="3200" spc="-1" strike="noStrike">
                <a:solidFill>
                  <a:srgbClr val="000000"/>
                </a:solidFill>
                <a:latin typeface="Times New Roman"/>
              </a:rPr>
              <a:t>erkannt und verstanden zu werd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ie biologische Dimens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Beobachtu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Phänomen, die mit den Sinnesorganen erfasst werden kön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empirisch-analytische Datengewinnu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Genaue Messung und Beschreibu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können wenn nötig ohne aktive Beteiligung des Patienten erhoben werde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Z.B. Hautfarbe, Puls, BD, Laborwer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Times New Roman"/>
              </a:rPr>
              <a:t>Die anderen Dimensione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atengewinnung der </a:t>
            </a:r>
            <a:r>
              <a:rPr b="1" lang="de-CH" sz="2800" spc="-1" strike="noStrike">
                <a:solidFill>
                  <a:srgbClr val="000000"/>
                </a:solidFill>
                <a:latin typeface="Times New Roman"/>
              </a:rPr>
              <a:t>Beziehungsebene</a:t>
            </a:r>
            <a:r>
              <a:rPr b="0" lang="de-CH"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z.B. menschliche Sprache, Gedanken, Symbole, Gefühl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der </a:t>
            </a:r>
            <a:r>
              <a:rPr b="1" lang="de-CH" sz="2800" spc="-1" strike="noStrike">
                <a:solidFill>
                  <a:srgbClr val="000000"/>
                </a:solidFill>
                <a:latin typeface="Times New Roman"/>
              </a:rPr>
              <a:t>Dialog</a:t>
            </a:r>
            <a:r>
              <a:rPr b="0" lang="de-CH" sz="2800" spc="-1" strike="noStrike">
                <a:solidFill>
                  <a:srgbClr val="000000"/>
                </a:solidFill>
                <a:latin typeface="Times New Roman"/>
              </a:rPr>
              <a:t> muss hier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en Inhalt klären un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ie Information verifiziere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wir </a:t>
            </a:r>
            <a:r>
              <a:rPr b="1" lang="de-CH" sz="2800" spc="-1" strike="noStrike">
                <a:solidFill>
                  <a:srgbClr val="000000"/>
                </a:solidFill>
                <a:latin typeface="Times New Roman"/>
              </a:rPr>
              <a:t>erfahren</a:t>
            </a:r>
            <a:r>
              <a:rPr b="0" lang="de-CH" sz="2800" spc="-1" strike="noStrike">
                <a:solidFill>
                  <a:srgbClr val="000000"/>
                </a:solidFill>
                <a:latin typeface="Times New Roman"/>
              </a:rPr>
              <a:t> somit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ie Bedeutung der Erlebnisse des Patienten un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was die Erlebnisse auf den verschiedenen hierarchisch aufgebauten Systemebenen des menschlichen Organismus aussagen kön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09:39:13Z</dcterms:created>
  <dc:creator>Daniel Büche</dc:creator>
  <dc:description/>
  <dc:language>en-US</dc:language>
  <cp:lastModifiedBy>Bueche Daniel</cp:lastModifiedBy>
  <dcterms:modified xsi:type="dcterms:W3CDTF">2015-08-25T21:16:20Z</dcterms:modified>
  <cp:revision>6</cp:revision>
  <dc:subject/>
  <dc:title>Biopsychosoziales Modell</dc:title>
</cp:coreProperties>
</file>